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4C827-45BD-463E-BCF0-4237334F9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666B-AEBD-4F07-A080-1C5C17AD8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03D4-8CB7-4309-BB72-002E6E613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FE5D-01E5-48AB-937A-3077D37CF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CC10-FA51-4247-A817-E4BDE25AE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8DC3-D7AD-4AF7-AD86-0C0306BBE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C34E-BA95-4346-85B5-652C8D2D6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3440-7220-4120-83FD-8BF3693A3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EB4B-793E-4816-9353-C04CED037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D2AF-3EF7-4FFD-8D54-88BCE2356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AAE9-DA17-4E02-A0B8-01C1C274F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AAC9-2A71-446A-8317-0EFD6779D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12372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2C8C85-EAB7-4087-AC62-793FF0E99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d04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Oracle Academy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3567240"/>
            <a:ext cx="541044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version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har -&gt; Date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_DATE('data', 'format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folosesc aceleasi formate ca si la TO_CHAR cu urmatoarele restrict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se pot folosi siruri incluse intre ghilim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date('10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','dd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"of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 YYYY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ero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lele nu pot fi scrise cu litere, trebuie sa fie num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date(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006'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ch, YYYY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ero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B3CC-53C8-44BD-9F0B-10D2FE1051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RR and YY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42425" t="21552" r="6061" b="21886"/>
          <a:stretch/>
        </p:blipFill>
        <p:spPr>
          <a:xfrm>
            <a:off x="1295280" y="2057400"/>
            <a:ext cx="464832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5272-3E48-4B19-BF99-54219A770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RR and YY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TO_CHAR(TO_DATE('01-01-97','dd-mm-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y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,'</a:t>
            </a:r>
            <a:r>
              <a:rPr b="0" lang="en-US" sz="2200" spc="-1" strike="noStrike">
                <a:solidFill>
                  <a:srgbClr val="f42d1e"/>
                </a:solidFill>
                <a:latin typeface="Arial"/>
              </a:rPr>
              <a:t>RR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61D7-956B-49D1-BD66-E97FD16F4C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830" t="28306" r="51386" b="49153"/>
          <a:stretch/>
        </p:blipFill>
        <p:spPr>
          <a:xfrm>
            <a:off x="1600200" y="2438280"/>
            <a:ext cx="5943600" cy="219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FBB7-1BC9-4227-BB6F-A2D9764550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_CHAR (data, 'format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vintele dintre ghilimele in format sunt inserate in sirul afisat exact cum a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tiile ce apar informat sunt reproduse in rezultatul afi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 – elimina spatiile sau zerourile nesemnif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o_char(sysdate,'dd "din luna" mm "a anului" YYY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10 din luna </a:t>
            </a: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a anului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f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d "din luna" mm "a anului" YYYY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10 din luna 3 a anului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6A69-7685-403D-A14A-E96F3098953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-mon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-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Two Thousand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mon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mar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TWO THOUSAND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B0FE-EAED-49D7-B32D-D2C99F9B22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fm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2000" spc="-1" strike="noStrike">
                <a:solidFill>
                  <a:srgbClr val="f42d1e"/>
                </a:solidFill>
                <a:latin typeface="Arial"/>
              </a:rPr>
              <a:t>M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15C9-FDC5-4209-84EC-2A47A73F3E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o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10-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99D0-5F3B-46A1-B3AE-5260CBFF8B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S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se poate combina cu YYY, DD, MM, HH,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en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-7,'dd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s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thi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CB70-F0A8-4675-8E9B-47B603A8CD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iua din luna (1..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spell is set by</a:t>
            </a: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 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the </a:t>
            </a: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th d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d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10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88C5-D14D-4373-8CAD-40F50EB0A3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onversion Functions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Date -&gt; Char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ziua din saptamana (1..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ay, 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Friday,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abrevierea cu trei caract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DY, 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m-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FRI,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03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2d1e"/>
                </a:solidFill>
                <a:latin typeface="Arial"/>
              </a:rPr>
              <a:t>D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ziua din an (1..3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o_char(sysdate,'ddd "of" YYYY') from 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6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f42d1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D028-412F-4C72-A983-4E69FE4D023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10:22Z</dcterms:created>
  <dc:creator>carmen</dc:creator>
  <dc:description/>
  <dc:language>en-US</dc:language>
  <cp:lastModifiedBy>kome</cp:lastModifiedBy>
  <dcterms:modified xsi:type="dcterms:W3CDTF">2007-09-18T17:50:13Z</dcterms:modified>
  <cp:revision>58</cp:revision>
  <dc:subject/>
  <dc:title>Oracle Academy</dc:title>
</cp:coreProperties>
</file>